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A69-DA40-4295-9065-D2BD3205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B79-5DF8-42CC-BE66-712C619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5DC-FD31-4BDB-8BCB-192D5F4D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46F-E74A-4816-99FC-D5C9D5F3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A43-DC75-4FD3-85AC-7A2F00B9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544-B385-45F5-A8EB-BD6DD7B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270-EA84-4683-90C0-5868A96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B09-DF84-4AAA-B54C-B4489F96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DAD-B492-450B-BF9D-92F09FF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40F-25B0-466D-9F85-5A7788B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8C4-0454-48F8-B179-D4A42D3D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046-85F1-40A6-80D2-01DECB7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9346-E554-4B2B-B011-4898C008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3/1302002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lacoper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ptop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mino acid needed for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al bacteria cells can obtain tryptophan from a mammalian diet, or they can synthesize it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per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a promoter, an operator, and 5 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5 genes code for 3 enzymes needed to synthesize tryptop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2095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no tryptophan present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ble to bind to the operator, and RNA polymerase is free to bind to the promoter and initiate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tryptophan present, it binds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sor protein, altering its shape so that it can bind to the operator;  tryptophan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pr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r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cs.whfreeman.com/thelifewire/content/chp13/130200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man genome contains about 20000-25000 genes that code for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for proteins that are always needed in a cell;  they are constantly being transcribed and trans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proteins are needed by all cells at all times, 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regu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to an organism's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ukaryotic cells, there are 4 levels of gene reg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ranscri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trans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see Table 1 on page 255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Mechans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oteins that bind to DNA and assist RNA polymerase in binding to DNA to "turn on" genes when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ic cells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rol gene exp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uster of genes with 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moter region, and a sequenc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s called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t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isaccharide found in milk or milk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al bacteria cells split lactose (into glucose and galactose) to generate energy for growth using the enzy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a-galactosid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pe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 promoter, an operator, and 3 ge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beta-galactos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beta-galactosidase permease (makes cell membrane permeable to lact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s for transacetylase (unknown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98600" y="1752480"/>
            <a:ext cx="4483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no lactose present,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I prot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ds to the operator, which partially blocks the promoter region, preventing RNA polymerase from binding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I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sor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it binds to the LacI protein, changing its shape and causing it to fall off of the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os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l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ac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ed ani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manasinc.com/webcontent/animations/content/lacopero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0:09:53Z</dcterms:created>
  <dc:creator>rubina khan</dc:creator>
  <dc:description/>
  <dc:language>en-US</dc:language>
  <cp:lastModifiedBy>rubina khan</cp:lastModifiedBy>
  <dcterms:modified xsi:type="dcterms:W3CDTF">2011-11-17T18:52:38Z</dcterms:modified>
  <cp:revision>32</cp:revision>
  <dc:subject/>
  <dc:title>Protein Synthesis</dc:title>
</cp:coreProperties>
</file>